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3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D395-95E3-47E8-8CEE-0E014ADD3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9D07-6ADC-44AE-B902-E0A2B8F1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A99-7C5E-49B2-8775-56DF3A55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DE3-F69B-4453-B548-E308C3D3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E40-0619-45D3-A58A-65FAD44C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655-1B68-49AD-B70E-16C1BD93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BC92-59C9-4189-BBFC-DE230DE6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AE79-53F5-4646-90F5-4B2405BE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6297-00DF-4499-8A3A-6C2D40C9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5CE5-B533-4052-AA13-D455F839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AE70-02BF-48EB-9281-8DDDF3C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39D7-97AD-442E-BEA5-076230D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D391-C0BB-4F71-9761-AE2C754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E8E-89D8-4B31-9A75-F40ABB4B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9A83-C3F7-4952-A1B6-251DFD79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9063-DF47-4125-8974-D620838B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7F63-C33D-4BC7-829A-35C97628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75E6-8BBB-457B-89F8-2335D8C3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733E-06D3-421B-ACE9-486655C3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6B46-A0FF-4CE9-AC8D-3646CF17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72E8-E877-4106-8489-975F7C5A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E0E4-D537-448D-9538-006381D5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492F-6584-4502-84ED-CEF31890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A0D1-6EC2-42E1-8FF6-6E4FA66F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743-AE78-40AE-BE85-0BB9EDE2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DDE2-EDB7-4F4B-BC8A-3E10EFE7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CF59-47E0-4B29-ABBB-A84159C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0C3C-0855-4257-9884-FC1A0CF3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2D09-E7B5-467A-9C8A-60B2DD01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1D23-F784-4E54-A876-258EE0E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A8EE-E2C7-411F-B91C-5D97D95F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4AAB-A1DD-4A39-9806-F5F18C07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D9767-9CC8-4A6B-82E3-96BF905B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184EF-CC80-45E8-9B1D-99734F75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D4673-05FC-49F9-AFC0-B29F3D13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46C-ED7B-4FF5-B092-276F911A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C56F-A0CC-4D96-A3FC-289C722D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3C34-C5E4-400C-8A36-E7A77F8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6713C-BFF1-413C-84AB-7DDDCAEF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CA42-23A9-4FE3-81CF-DC39F294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FD45D-E7D6-4E8F-B0FC-FF7CA3E0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85FF8-87A9-44DB-9A8F-18B68B54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E08B-208A-4045-9BF3-F4A617FB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3A32-2997-460B-948D-42713DB2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57A6E-88D6-4280-8DB8-08652F88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BD0EA-7C6F-4725-BA68-0530B66B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9DA-5BFE-498C-9338-BCF6C186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29C45-9F3B-4F89-A9EE-5DA489E1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47357-2430-4BBC-A94B-18CEB783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18158-6AD0-4C27-BEF9-BBCF37D5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9B776-14C5-4193-8152-5FFA5D71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1442F-10AB-487F-BCAE-95FC0DA2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76599-04AF-4E91-AD97-08EF3B6B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95C16-D5EC-4F68-B2DB-8DD7319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F76D4-61A5-4049-9CAA-8460B93F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2944-D521-4633-9946-E359FF29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E2C90-D1AF-4F78-9A67-F9BF350D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D1F-1F36-4696-955D-8B71279A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110B5-313C-4D45-A5B5-CCB55522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4B90-B635-440B-AB5E-92A9073E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AFB46-70EC-4575-B7E9-0552CBB9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69EEA-7455-4C12-800D-D386CECF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EEB97-706C-4E36-9E6B-BEE422D5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1703-9213-4E5C-8546-948377FA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2A3DB-F883-4590-B4A9-E158B901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299F5-071D-4767-9327-05AA6208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CEE2-E573-47F0-8D62-932F66B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6837-8705-4AFD-8F54-4AE2E551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C29-2B52-4768-97F4-01A9477F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C72B-0DD7-4E14-8F1A-F486940C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BABC-2CA0-4247-B45E-460827E3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6D665-211D-4695-A0EF-EEE84916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54F61-1CEC-48FF-B9CF-C23C057E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06654-C8AD-4096-A3D8-7EDE288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FF37-1CE7-46B0-A8FC-8EA7A15A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01F77-CA2E-4B46-8D5F-9AE87F4E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FF4CB-7827-4E7A-994C-CCF6B812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42C77-41AA-4F0F-A9CA-CC948EC2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1667-B98E-4DE1-BB68-07AAA71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269-CBA1-4845-A3FE-07DA105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A6E89-2EFF-4AF0-BD68-2F5C3BC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A9EBD-75AC-4813-8736-F599CB6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0E18D-8DCB-4617-9B20-8033AA10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5F7FD-259A-4809-B5C8-21FE45B8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2CDEC-875F-4F73-B3D0-E52CD65C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FD8-028A-4895-B774-E51AB31F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8915-564D-48B1-995E-99F68EE1A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9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23D7-DE4A-47AB-B363-9A478B7E097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6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B5B3-893D-4F1C-9FCD-6B5E98D80D5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601C-0028-4BA7-A100-0909547F492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2205-0C13-4C0E-AD94-3FF7518A7FA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BC4F-6AB1-4B77-86B6-B38F91DEA0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66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2D45-09A5-4C5C-BBE4-FA6988D13B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7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18960" y="35809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shadow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ca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fath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le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tel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hea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se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grou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fore in time or pla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6" descr="forecast.jpg"/>
          <p:cNvPicPr/>
          <p:nvPr/>
        </p:nvPicPr>
        <p:blipFill>
          <a:blip r:embed="rId2"/>
          <a:stretch/>
        </p:blipFill>
        <p:spPr>
          <a:xfrm>
            <a:off x="3352680" y="297180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forehead.jpg"/>
          <p:cNvPicPr/>
          <p:nvPr/>
        </p:nvPicPr>
        <p:blipFill>
          <a:blip r:embed="rId3"/>
          <a:stretch/>
        </p:blipFill>
        <p:spPr>
          <a:xfrm>
            <a:off x="6629400" y="2666880"/>
            <a:ext cx="1638360" cy="1219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foreground.jpg"/>
          <p:cNvPicPr/>
          <p:nvPr/>
        </p:nvPicPr>
        <p:blipFill>
          <a:blip r:embed="rId4"/>
          <a:stretch/>
        </p:blipFill>
        <p:spPr>
          <a:xfrm>
            <a:off x="6400800" y="47242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forelegs.jpg"/>
          <p:cNvPicPr/>
          <p:nvPr/>
        </p:nvPicPr>
        <p:blipFill>
          <a:blip r:embed="rId5"/>
          <a:stretch/>
        </p:blipFill>
        <p:spPr>
          <a:xfrm>
            <a:off x="7391520" y="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e, G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poge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po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way; from; off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grap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logy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ogy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ience; study of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met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rige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cent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lat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ar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6" descr="apogee.jpg"/>
          <p:cNvPicPr/>
          <p:nvPr/>
        </p:nvPicPr>
        <p:blipFill>
          <a:blip r:embed="rId2"/>
          <a:stretch/>
        </p:blipFill>
        <p:spPr>
          <a:xfrm>
            <a:off x="5181480" y="251460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geometry.jpg"/>
          <p:cNvPicPr/>
          <p:nvPr/>
        </p:nvPicPr>
        <p:blipFill>
          <a:blip r:embed="rId3"/>
          <a:stretch/>
        </p:blipFill>
        <p:spPr>
          <a:xfrm>
            <a:off x="4800600" y="380880"/>
            <a:ext cx="1238400" cy="943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geometryy.jpg"/>
          <p:cNvPicPr/>
          <p:nvPr/>
        </p:nvPicPr>
        <p:blipFill>
          <a:blip r:embed="rId4"/>
          <a:stretch/>
        </p:blipFill>
        <p:spPr>
          <a:xfrm>
            <a:off x="7162920" y="228600"/>
            <a:ext cx="1562040" cy="1371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geography.jpg"/>
          <p:cNvPicPr/>
          <p:nvPr/>
        </p:nvPicPr>
        <p:blipFill>
          <a:blip r:embed="rId5"/>
          <a:stretch/>
        </p:blipFill>
        <p:spPr>
          <a:xfrm>
            <a:off x="2895480" y="5181480"/>
            <a:ext cx="1305000" cy="1409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apogeee.jpg"/>
          <p:cNvPicPr/>
          <p:nvPr/>
        </p:nvPicPr>
        <p:blipFill>
          <a:blip r:embed="rId6"/>
          <a:stretch/>
        </p:blipFill>
        <p:spPr>
          <a:xfrm>
            <a:off x="4419720" y="4267080"/>
            <a:ext cx="2361960" cy="2133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geology.jpg"/>
          <p:cNvPicPr/>
          <p:nvPr/>
        </p:nvPicPr>
        <p:blipFill>
          <a:blip r:embed="rId7"/>
          <a:stretch/>
        </p:blipFill>
        <p:spPr>
          <a:xfrm>
            <a:off x="7162920" y="4267080"/>
            <a:ext cx="175248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c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cto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ctoli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ct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hundred; characterized by a hundr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9" descr="hectometer.jpg"/>
          <p:cNvPicPr/>
          <p:nvPr/>
        </p:nvPicPr>
        <p:blipFill>
          <a:blip r:embed="rId2"/>
          <a:stretch/>
        </p:blipFill>
        <p:spPr>
          <a:xfrm>
            <a:off x="1219320" y="3429000"/>
            <a:ext cx="1199880" cy="228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hectogramm.jpg"/>
          <p:cNvPicPr/>
          <p:nvPr/>
        </p:nvPicPr>
        <p:blipFill>
          <a:blip r:embed="rId3"/>
          <a:stretch/>
        </p:blipFill>
        <p:spPr>
          <a:xfrm>
            <a:off x="3809880" y="26668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hectoliter.jpg"/>
          <p:cNvPicPr/>
          <p:nvPr/>
        </p:nvPicPr>
        <p:blipFill>
          <a:blip r:embed="rId4"/>
          <a:stretch/>
        </p:blipFill>
        <p:spPr>
          <a:xfrm>
            <a:off x="3505320" y="457200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hectoliterr.jpg"/>
          <p:cNvPicPr/>
          <p:nvPr/>
        </p:nvPicPr>
        <p:blipFill>
          <a:blip r:embed="rId5"/>
          <a:stretch/>
        </p:blipFill>
        <p:spPr>
          <a:xfrm>
            <a:off x="6095880" y="3657600"/>
            <a:ext cx="21909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m, Hemo, -Em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2832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al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al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 or pertaining to; characterized by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orrh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uk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x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ophil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lyc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ost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loo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6" descr="hemophilia.jpg"/>
          <p:cNvPicPr/>
          <p:nvPr/>
        </p:nvPicPr>
        <p:blipFill>
          <a:blip r:embed="rId2"/>
          <a:stretch/>
        </p:blipFill>
        <p:spPr>
          <a:xfrm>
            <a:off x="3809880" y="3200400"/>
            <a:ext cx="2210040" cy="1523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hemophiliaa.jpg"/>
          <p:cNvPicPr/>
          <p:nvPr/>
        </p:nvPicPr>
        <p:blipFill>
          <a:blip r:embed="rId3"/>
          <a:stretch/>
        </p:blipFill>
        <p:spPr>
          <a:xfrm>
            <a:off x="6705720" y="25909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hemostat.jpg"/>
          <p:cNvPicPr/>
          <p:nvPr/>
        </p:nvPicPr>
        <p:blipFill>
          <a:blip r:embed="rId4"/>
          <a:stretch/>
        </p:blipFill>
        <p:spPr>
          <a:xfrm>
            <a:off x="3733920" y="502920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anemia.jpg"/>
          <p:cNvPicPr/>
          <p:nvPr/>
        </p:nvPicPr>
        <p:blipFill>
          <a:blip r:embed="rId5"/>
          <a:stretch/>
        </p:blipFill>
        <p:spPr>
          <a:xfrm>
            <a:off x="6324480" y="152280"/>
            <a:ext cx="2590920" cy="1447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rupt.jpg"/>
          <p:cNvPicPr/>
          <p:nvPr/>
        </p:nvPicPr>
        <p:blipFill>
          <a:blip r:embed="rId6"/>
          <a:stretch/>
        </p:blipFill>
        <p:spPr>
          <a:xfrm>
            <a:off x="7162920" y="5181480"/>
            <a:ext cx="1590480" cy="1219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mi (semi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sphe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card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cyc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demisemiquaver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demi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alf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s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l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7" descr="hemidemisemiquaver.jpg"/>
          <p:cNvPicPr/>
          <p:nvPr/>
        </p:nvPicPr>
        <p:blipFill>
          <a:blip r:embed="rId2"/>
          <a:stretch/>
        </p:blipFill>
        <p:spPr>
          <a:xfrm>
            <a:off x="3733920" y="4800600"/>
            <a:ext cx="1447560" cy="1523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hemidemisemiquaverr.jpg"/>
          <p:cNvPicPr/>
          <p:nvPr/>
        </p:nvPicPr>
        <p:blipFill>
          <a:blip r:embed="rId3"/>
          <a:stretch/>
        </p:blipFill>
        <p:spPr>
          <a:xfrm>
            <a:off x="5105520" y="320040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hemisphere.jpg"/>
          <p:cNvPicPr/>
          <p:nvPr/>
        </p:nvPicPr>
        <p:blipFill>
          <a:blip r:embed="rId4"/>
          <a:stretch/>
        </p:blipFill>
        <p:spPr>
          <a:xfrm>
            <a:off x="7086600" y="23623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emicycle.jpg"/>
          <p:cNvPicPr/>
          <p:nvPr/>
        </p:nvPicPr>
        <p:blipFill>
          <a:blip r:embed="rId5"/>
          <a:stretch/>
        </p:blipFill>
        <p:spPr>
          <a:xfrm>
            <a:off x="7543800" y="228600"/>
            <a:ext cx="1200240" cy="1257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hemisperee.jpg"/>
          <p:cNvPicPr/>
          <p:nvPr/>
        </p:nvPicPr>
        <p:blipFill>
          <a:blip r:embed="rId6"/>
          <a:stretch/>
        </p:blipFill>
        <p:spPr>
          <a:xfrm>
            <a:off x="7315200" y="4343400"/>
            <a:ext cx="140004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pt, Hep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ptarc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ptag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ptahedr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2428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8" descr="heptahedron.jpg"/>
          <p:cNvPicPr/>
          <p:nvPr/>
        </p:nvPicPr>
        <p:blipFill>
          <a:blip r:embed="rId2"/>
          <a:stretch/>
        </p:blipFill>
        <p:spPr>
          <a:xfrm>
            <a:off x="990720" y="3809880"/>
            <a:ext cx="1981080" cy="2286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eptagon.jpg"/>
          <p:cNvPicPr/>
          <p:nvPr/>
        </p:nvPicPr>
        <p:blipFill>
          <a:blip r:embed="rId3"/>
          <a:stretch/>
        </p:blipFill>
        <p:spPr>
          <a:xfrm>
            <a:off x="3733920" y="4267080"/>
            <a:ext cx="1942920" cy="2133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eptagonn.jpg"/>
          <p:cNvPicPr/>
          <p:nvPr/>
        </p:nvPicPr>
        <p:blipFill>
          <a:blip r:embed="rId4"/>
          <a:stretch/>
        </p:blipFill>
        <p:spPr>
          <a:xfrm>
            <a:off x="6248520" y="27432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heptahedronn.jpg"/>
          <p:cNvPicPr/>
          <p:nvPr/>
        </p:nvPicPr>
        <p:blipFill>
          <a:blip r:embed="rId5"/>
          <a:stretch/>
        </p:blipFill>
        <p:spPr>
          <a:xfrm>
            <a:off x="67816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x, Hex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75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ngul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g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hedr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po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rc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57800" y="159984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11" descr="hexapodd.jpg"/>
          <p:cNvPicPr/>
          <p:nvPr/>
        </p:nvPicPr>
        <p:blipFill>
          <a:blip r:embed="rId2"/>
          <a:stretch/>
        </p:blipFill>
        <p:spPr>
          <a:xfrm>
            <a:off x="914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exapod.jpg"/>
          <p:cNvPicPr/>
          <p:nvPr/>
        </p:nvPicPr>
        <p:blipFill>
          <a:blip r:embed="rId3"/>
          <a:stretch/>
        </p:blipFill>
        <p:spPr>
          <a:xfrm>
            <a:off x="3124080" y="5181480"/>
            <a:ext cx="1638360" cy="1447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hexagon.jpg"/>
          <p:cNvPicPr/>
          <p:nvPr/>
        </p:nvPicPr>
        <p:blipFill>
          <a:blip r:embed="rId4"/>
          <a:stretch/>
        </p:blipFill>
        <p:spPr>
          <a:xfrm>
            <a:off x="5334120" y="51055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hexangular.jpg"/>
          <p:cNvPicPr/>
          <p:nvPr/>
        </p:nvPicPr>
        <p:blipFill>
          <a:blip r:embed="rId5"/>
          <a:stretch/>
        </p:blipFill>
        <p:spPr>
          <a:xfrm>
            <a:off x="7315200" y="4724280"/>
            <a:ext cx="1619280" cy="1524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hexangularr.jpg"/>
          <p:cNvPicPr/>
          <p:nvPr/>
        </p:nvPicPr>
        <p:blipFill>
          <a:blip r:embed="rId6"/>
          <a:stretch/>
        </p:blipFill>
        <p:spPr>
          <a:xfrm>
            <a:off x="3733920" y="35812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hexahedronn.jpg"/>
          <p:cNvPicPr/>
          <p:nvPr/>
        </p:nvPicPr>
        <p:blipFill>
          <a:blip r:embed="rId7"/>
          <a:stretch/>
        </p:blipFill>
        <p:spPr>
          <a:xfrm>
            <a:off x="3809880" y="198108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hexapoddd.jpg"/>
          <p:cNvPicPr/>
          <p:nvPr/>
        </p:nvPicPr>
        <p:blipFill>
          <a:blip r:embed="rId8"/>
          <a:stretch/>
        </p:blipFill>
        <p:spPr>
          <a:xfrm>
            <a:off x="6195960" y="2666880"/>
            <a:ext cx="210996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hexhagedron.jpg"/>
          <p:cNvPicPr/>
          <p:nvPr/>
        </p:nvPicPr>
        <p:blipFill>
          <a:blip r:embed="rId9"/>
          <a:stretch/>
        </p:blipFill>
        <p:spPr>
          <a:xfrm>
            <a:off x="7086600" y="152280"/>
            <a:ext cx="1771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09-10-15T21:16:28Z</dcterms:modified>
  <cp:revision>33</cp:revision>
  <dc:subject/>
  <dc:title>Roots List #1</dc:title>
</cp:coreProperties>
</file>